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8CD-63FA-47D1-849A-9D9BD1D0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31E-3FFD-4B14-BE03-F391EADF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0AB-E3D4-4D4B-BDBC-F3D6F682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F78-BDD2-4F67-B651-B32909BF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3C5-475D-438A-8315-4982E710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35F-5255-472B-95AF-743F192E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B21-6348-45FA-BEA9-87AABF27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755-2FA3-4FE6-B913-4B980325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3C9-C46D-404A-ACF0-23E87EFA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468-0A1E-4372-8564-1FB9AEFD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B3B-88D0-44E5-8B4A-799E4930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954-F218-4970-A749-600DD9CD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860C-4CFD-4715-A9EE-E5E92F2E9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st (show ONLY differences) the tone of Howard Zinn’s “Empire and Its People” reading and the tone of Foote and Skinner’s “Makers and Defenders” chap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e differences of tone through their word ch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e those examples.  You do NOT need to create a work cited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5:17:57Z</dcterms:created>
  <dc:creator>lehgen</dc:creator>
  <dc:description/>
  <dc:language>en-US</dc:language>
  <cp:lastModifiedBy>lehgen</cp:lastModifiedBy>
  <dcterms:modified xsi:type="dcterms:W3CDTF">2007-12-03T16:08:59Z</dcterms:modified>
  <cp:revision>2</cp:revision>
  <dc:subject/>
  <dc:title>Slide 1</dc:title>
</cp:coreProperties>
</file>